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5F4-21D3-48C9-A5AD-B509DE2B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93D-E189-4338-9C5D-D3FAD86B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432F7-EBD3-4CD9-9E10-8A92944A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D2689-1013-4A38-BAA8-6213B4F5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44D0A-E09C-4CB8-8659-2F5A84F0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AE2ED-A8CD-4E4D-9747-7BBE515D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104AF-0E6B-4A5C-90F7-AB2DE4C5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1A96E-24B1-40D9-82B5-78ABFAF6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6FF7F-B700-48F6-8B6E-39C75F91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6484D-1E27-4305-A051-83B08D74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05763-4555-45CD-B53E-76D85128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CD46A-7854-4382-A02B-0230709C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D01-F84D-4E09-AC2E-4DC3E198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55806-D8F0-4FCB-964C-FD592ABF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DF71C-3F2C-492A-9100-743B3ABF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62C02-3610-46A7-ACEA-0F340A4F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207E2-94DC-4D9D-B337-3FC6F045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D7CED-A5DA-493C-98AC-30C59627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70620-F4EC-4073-9FCB-C6F66657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0FFCD-0CA6-4D72-828F-FF8D8B68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C1990-A5DD-456C-9CD3-BA1B1A10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206B0-8AFB-49DC-A5C9-E0E96912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6E3F6-6770-4EAD-B88F-001B981A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99E-1AA2-47E5-8C52-7614AF40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3637E-DD6A-44EF-B5D5-FC3ED4F5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6DED2-AE31-44C5-89E6-673832EC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69DE1-48F8-43B6-A29E-FDE9304C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66F9B-03A5-41D4-B433-1EB20E07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8417F-766C-415B-BE0A-E0C79D31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5DC82-62AC-40AE-9788-43FE1FB4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290F4-F5C6-4DEF-B9CA-05D15D1E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4C950-A6F7-46D7-994D-1CC3F4D6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CCDFE-CE5A-4D0D-98B1-65F94295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0940D-C0C6-4B4F-B995-B266BF07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96C4-9542-409B-889A-BBC8B6B4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357CA-2C9F-4427-B6EA-F9940A7E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43FC3-C43A-41E6-9261-92875B24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48B58-9B16-478B-A218-3B04E50F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5147E-F5A9-43DD-8B60-DCE36F16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E817E-8766-4A50-8FC1-D85BF904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F5869-A06C-4741-A260-80465FDF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33F9D-7A09-40C0-9344-F6B7F6A3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FC069-C876-4958-8C51-6AAF7493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C131C-BC20-4590-A4CE-03A6520B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E28F2-9774-4D83-915B-B15C7E34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8834-9EEB-4658-80C2-C1864E6E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7AC17-A772-49E4-A8B3-57424A03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88B18-548B-41B0-8AF6-8373DC1C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FA067-3739-4C90-BBB3-9B9D2363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8CFA6-217E-4F24-91D9-C21EFC7C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65678-4751-4142-A74B-3E387F56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3BB43-D91D-46B3-A75A-CD2BB584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E0485-4B18-45EF-ABFB-DBAE8338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AE4BE-058D-4878-9D95-73BBBF33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D7C99-D7AF-4BA8-8FA9-7F5D8BE8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02055-F16F-468B-8BAA-88E852EE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22BF-DAE0-42C3-A6DA-CC63F554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3FC70-5043-4721-A17A-470FFC02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8B5DD-DFF0-49E3-B1C6-4FAF532E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D928C-F6AD-4D29-9843-F27588D7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5B9E0-DBF9-475D-AF55-74DD84E6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E0133-DB17-4E7F-AB38-E7B3D60A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6C5C6-6265-4645-93FB-F4034095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6758F-656A-4773-B4FC-2B590CC7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4AD01-A955-4CA3-9962-F85BE00B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4415B-1EA6-402E-B282-DBAFA8AF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ADE95-5B93-4E59-B39B-F16C3736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1305-69B1-4FCD-A036-77941A91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EEF6A-EE74-4055-8711-7373BD70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C022A-4980-41D1-8F54-7C39A573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E4097F-4B5F-4045-92BB-B9476D5E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473C39-92F5-4451-A0D0-0EBA7033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DE84F-5519-438E-9110-B769F10D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E441D-96A7-40BD-84ED-A5BB7590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2C335-333C-49D0-AA98-311645BF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BFB5E-3A1D-4B58-AB03-2CAB8AF5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FF043-3E1F-40FE-A087-1D14E57B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18B33-0A73-49C2-9972-3C5C6780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478A-7586-49E9-BE2C-4FD7AB6F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9B47B3-8D0D-4F18-A804-4280E05A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1D6F2-5E6B-463F-8685-330FAC69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B691F-6B14-465B-8AA2-2B811BB3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337F80-89AC-45CD-A70E-7454E14B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C15E1-4B74-46A8-A88F-E1A99690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1539F8-0BDC-4043-9A35-723D0E8D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CCB30-B376-484C-8D67-4173565A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308DFA-B363-4BEE-BF7C-0F7B0D33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9FC903-A123-4DFA-AA15-0B0BB7F8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7037E3-F0C8-491D-A266-F75A4390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C8F8-DD90-40F5-87B2-EA9DC62A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B76194-99D9-4D7A-9A0C-0DFF75A3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5B4E2-B351-4C55-A0A4-E921D6C8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DED8A3-0042-400C-92A5-9C1FD808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7A909-6C77-495E-A288-A47D7397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4B8EB8-2ED4-4EC6-B479-62FFDC7C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9499CD-B60C-489B-9035-FC01D2DF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D1543D-7B2D-4666-946F-36D6194F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64C4E-CA2D-4D91-A468-2D43FC83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C032F-7A0A-4A67-BC6A-763E90A0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0A366-1382-4474-9242-0E19BBA0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CA6E-894C-4103-A126-C16615D9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8162C5-02CF-4B40-947D-C6C70BC0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ED535-094E-499D-99C4-9FE24A88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746A81-A8E2-4B90-95F1-B0059894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2B4DC7-A75D-4096-ACCE-1E78C63B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C06D0-E309-4425-BF5C-D598B993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85691C-EAB0-4C9F-8E2B-302B3E1E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39FB08-FDA1-4B38-82F5-CD2977D1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109831-F851-4A84-AA4C-DC2D7F64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24507-E2F3-42E5-A512-64825C94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E612D2-C00F-4176-964E-8A88DD5C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5F7-5F08-491E-B658-A63C0200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896E-57C7-4BD0-A742-E36287FF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1DDF72-1058-4C38-B8EF-3129437D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8226E-5E65-4C45-BD57-EFBD576E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0AC11-E924-47FD-B82B-8079A6EA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CF9149-553F-49D5-9BE1-E6B85C58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58F225-17D4-4E64-A3C3-A21DD3C8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1FBC1B-B21A-4465-A1E5-52BD9357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832ABD-6534-4B0F-8E7A-FA66F903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D6FB3-82B4-4160-AB74-D4ADA9D5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8444A-F1D7-4C13-9761-B43083C6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B9947-A435-4885-A69C-1EDAD940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8FE6-AE4A-49AA-9857-6B2F10E2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E15053-9A13-4A38-8C3E-7B19FCFD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DF7659-9497-4017-9E46-EEB4E4F8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A3AA90-571B-47AF-BDD5-19980FE7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CD182-C008-4C32-AA41-115E33A1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BC0CCD-28ED-4AB0-9780-42150A12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08537E-21DD-4BA3-BE52-9A2C8AA8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417EB8-A0E1-4F2E-AAC5-CC46B022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2CA1D2-7984-4029-AA8D-DAC31E24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E7579C-EA13-4CAD-881E-79311966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43212A-FA3A-4E52-9359-23840682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FA9E-9B28-4BEF-AF25-09316209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63DA43-EB6E-49A6-90B7-B9B5C7EB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182C8E-F159-4C63-97D4-4755E5A6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29BA76-3A3E-4A94-AB25-9CC6A53C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2186B3-3459-4655-A1D9-372CAEB1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3B6E66-4B12-40D5-B4AB-1362CCA5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C35D2-05D3-4250-9EEC-47993398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CFC92A-538B-4AD8-AE65-9E056983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CCB9DD-3A6E-48AA-BCAF-AD9919A9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EE4605-054C-46E2-9A42-4BF812CB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E97268-9CED-4387-A802-04FB4995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3CEC-9DCD-45C0-BD72-A8BD546C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0D8618-AC30-40A5-9243-3B8B3FE4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7F3E3C-D13F-44A1-AB28-860633DD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B579EC-1C6B-4AC6-9F2D-3C155A06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CD303E-05C8-482B-9AC3-C045EABA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7CE5BF-F381-481B-AE33-E093DD8F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F8ABB7-60BE-453E-9302-E1DBA195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6529FC-0CCB-4BEE-A106-D05631B7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6251E3-C8CB-48FB-A7AB-F15372E1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4CB834-6E2A-4765-AED2-A89249B7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166831-3662-4AEB-9C7D-655EF6DD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2989-5F38-4451-9A57-BFCDD532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555F32-D9C9-48B8-8C55-A9BC416F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20816D-44FF-4C33-8B00-58F47BEA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1CF121-1348-40BE-A5D1-FBCCBFBB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0426FF-5D6A-4DB1-BD3A-F31ADD1D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3857E3-0A92-4BDD-B945-A0F94187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DC8EEB-7EA8-4BB6-A80A-97EFDE80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A768F4-6481-4239-9927-C0B5D9EC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267259-44C2-4AFB-9AC4-3CEB7B2A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4B2914-3B69-4973-8A20-43497739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D1CD91-B930-4DE5-B885-8D5B331C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E31DB-F41A-4444-8AFB-8A84425C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1F0AD7-356C-478E-80DF-6EC186FB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01ED90-AE64-4B06-9D48-43B9DB0F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39CC1B-DB73-41DD-BF91-C8C19944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B8E0-5215-403F-ABB5-6AC2DF16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4DE81-9C0C-4263-BF61-95909D66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4B91E-529E-49CD-991B-418C5F75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5B7FD-91DE-4CF7-A30E-0A9551FF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47D-3113-44AD-A021-51CF38C0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305C0-D814-4B6C-AB93-B52A7524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2BB88-A35D-4096-96B0-EB7D6D57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D1158-D3CE-4C5D-945B-84B3EE12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D7C5-13BD-4C6B-94E3-133CD6E5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B0509-D1B2-4A36-A517-067DBA02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AB021-AD6B-47C3-B23A-6FCD7B8F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1AB33-9F89-4B6F-8F03-316F0C41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336E-D2CE-4FC7-8364-FB5F7719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55783-6E79-4851-B1F4-119404C8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90ED-39BD-4691-9E9B-96349723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040-B142-497B-B541-DA6AA3B9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6FEFE-A888-46E9-9248-5D045F43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9A03A-16EF-4637-8FC2-3C46CF12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D61F9-9FBF-4FCC-9667-34236A30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DBEC9-2524-4B30-A258-CF122CB2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54CDE-56A6-4DDB-B807-BFA0B46A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E4DD9-1641-4B6A-9D50-F5993F72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EA5AB-D895-4BB7-9B55-E539B7EC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E8A49-0F89-44B2-BC03-1B405EAF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6C113-BDAF-458C-81BD-3082A9D6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2104F-08E2-47D0-9C6B-7CAAE44B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7C1-082E-458A-BB85-9523D503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8E9DA-0141-40CC-A478-BD8BF4EB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5F5D3-0265-44F9-B907-A4883657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EF3ED-552B-4836-A6B6-50206EB5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0C263-C541-4092-B465-A380C8B1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7DAE1-2C21-45E7-96BA-B352DB17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9EE20-D311-4950-A3D7-4BFC71EB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40881-909E-4399-9A01-8CC31342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64B50-C93E-46D0-B65E-478CDF1E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F79B0-1AD3-42D0-AD54-9352FDFD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3C390-AB2E-4999-A95C-65E66342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ED6-192B-4EA7-AD72-9B43231D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964AB-13F6-4E5D-97AE-E0771644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ED949-1EFE-48E3-AEBF-4E1343F4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76C7C-6D09-412E-96A1-263EDDE7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78A50-9801-4BBE-AAE0-E012FB7A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810D6-48AF-4A8C-A59E-D2D8E58C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858A7-4F39-46C9-B1FF-56F77BD4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B8A70-4CED-4431-B0FB-2FBB100E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93212-62BD-4D8B-B54B-E2C14F8E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3BC34-E2A4-478B-A259-B7030846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48AA4-87C8-46AB-AC22-83C39E2E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5E6-737C-4EDB-B5B1-81996DB9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149D3-1609-4EA6-90A9-41AEEAE3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32B5C-AC8A-489A-97A9-B4A3E7A5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EDE15-B506-4A42-A4C6-29637441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32EF9-08A0-4852-A2E7-0A04740A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2A6E1-48CA-4ABB-A3E3-D85F192F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F6C77-884A-4405-94C1-2F225C03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07664-BA38-40D5-95CF-3575515F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E78E7-E892-4B18-B032-EEF35C56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7C03F-7C5F-4C96-8742-D19307DC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2FE41-D719-413E-96AF-470B79D0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8C1-E063-42A7-B122-4A117DA3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30DA5-3879-480D-8E0C-D2060707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0E0B9-967E-45BA-AF92-88C3480D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8D0AD-66B7-41FA-96F3-4844BAC3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9148D-47CC-4460-B29B-142340EA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05E7D-058B-4052-8067-C4A744E4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9A2C0-BBE4-4ECF-9487-98611FEB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B432D-A7DB-40C5-953B-41623017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C810A-7D51-4BF4-9404-E7767605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DB618-0883-4BFE-9C2F-72AB4AB0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6BE3F-C5E5-4F1D-825F-465350F8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2A8-6209-4B53-9ACD-7B72BFD3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D6657-FB7A-4BE8-90DA-71D03FFF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D8517-9794-485D-ADCF-8B92C8A6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44756-3943-4C5A-80DC-615C2CD1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66EBA-E465-4FE3-BD54-84B66FEE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97DA8-352A-4C29-A994-3A03D910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0126F-0258-494D-B35A-81345DB2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DC846-0BD4-479B-9447-FA42C919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3B820-6C06-47C9-9449-9468370A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0C5A9-C903-4A15-ACB4-659CB30E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653E3-1956-4BB9-A08D-3B993DC2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72D6-0790-4498-801B-1294356360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267C-A6CF-441C-8BCB-EDEC9DA922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EBB8-1C66-4C83-8812-7C6A64056B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EE70-2EDC-45E8-B040-7A6AA709D8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C3E2-C7C5-43A7-8535-154497CC24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3414-378B-4C46-85C7-72A8E15602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3FA7-0132-4AA7-85C9-A7EE95DB46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6E4A-8376-44D8-A883-61258B22A3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72A1-F76E-4F2C-9598-D87CE5C94C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6866-28FB-4000-8B20-A13FDC346F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C83B-4714-497A-9240-5132B181DF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1A1B-9313-49FB-B77C-F2D2A45060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6BB9-73A8-42CF-BE4B-5634C32042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0E7A-15C3-4D13-9A3E-54E24A168B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E28B-8CBC-4E94-8AE4-7DE82A2675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F6B9-F76F-4E14-8FB3-BFC1C670E2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600B-7F30-4BEB-9605-46109A25D9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282E-C2A0-4243-B2FA-8EE1A846DF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8D01-EFD2-4AC6-A691-9DF3C46D23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3C43-38B2-413D-BCD6-A9025BC796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3F46-4AAD-42C2-A6A8-59245E7EE5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DF56-776B-4C36-BEDE-721B35A944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F4CF-CCDD-4610-99DA-16B4A12623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0C2C-3EFA-4D8B-9A49-8A4F5D360B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A362-441A-45DE-A814-0CA6F35999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FB8B-2717-4A51-8860-150AD10898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5069-7C11-4A59-A03A-FD6A6BC490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1647-BA20-45E0-B1F7-E74F766563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5DF9-66F5-45C9-A723-747BDB0F2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0654-BD97-434D-A3DD-C25BC6E70F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8026-79D3-49C6-AB10-42CA3B373D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86E9-2EF2-4493-AAF5-E8E2C2D669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3271-0DC4-43B8-8050-217DD31E51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E4F0-B5FF-40AD-B5F1-A79E0502CC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5079-D7E6-4CCE-8AC7-B4E3F3E3AC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60BA-75E4-4F69-96EA-0EBFD4D8AA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24FB-BB1C-4A7D-9ADE-8A4BB21CF8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9511-0556-424D-82A6-CE2D8206BC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0977-E25E-45C1-91B4-C699817021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B359-4A8D-46EF-8D5C-A2DBF10DC8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0840" y="1847880"/>
            <a:ext cx="8813880" cy="11494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71440" y="3598920"/>
            <a:ext cx="847728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9633" descr=""/>
          <p:cNvPicPr/>
          <p:nvPr/>
        </p:nvPicPr>
        <p:blipFill>
          <a:blip r:embed="rId1"/>
          <a:stretch/>
        </p:blipFill>
        <p:spPr>
          <a:xfrm>
            <a:off x="285840" y="905040"/>
            <a:ext cx="8572320" cy="56196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5651640" y="602136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69635" descr=""/>
          <p:cNvPicPr/>
          <p:nvPr/>
        </p:nvPicPr>
        <p:blipFill>
          <a:blip r:embed="rId3"/>
          <a:stretch/>
        </p:blipFill>
        <p:spPr>
          <a:xfrm>
            <a:off x="3182760" y="2517840"/>
            <a:ext cx="3476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95200" y="692280"/>
            <a:ext cx="8553600" cy="61052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6588000" y="4997520"/>
            <a:ext cx="165600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6012000" y="564660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2700360" y="632304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5724360" y="6310440"/>
            <a:ext cx="208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52320" y="128520"/>
            <a:ext cx="7839360" cy="6600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427640" y="355752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6746760" y="4249800"/>
            <a:ext cx="9352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6300720" y="494172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6357960" y="566100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2124000" y="6281640"/>
            <a:ext cx="237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295200" y="1557360"/>
            <a:ext cx="8553600" cy="3743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2124000" y="4724280"/>
            <a:ext cx="93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1100160" y="923760"/>
            <a:ext cx="6943680" cy="5457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1908000" y="590544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6026040" y="5950080"/>
            <a:ext cx="935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295200" y="1338120"/>
            <a:ext cx="8553600" cy="41817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451640" y="3284640"/>
            <a:ext cx="93528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7524720" y="4941720"/>
            <a:ext cx="934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5300" descr=""/>
          <p:cNvPicPr/>
          <p:nvPr/>
        </p:nvPicPr>
        <p:blipFill>
          <a:blip r:embed="rId1"/>
          <a:stretch/>
        </p:blipFill>
        <p:spPr>
          <a:xfrm>
            <a:off x="476280" y="1766880"/>
            <a:ext cx="8191440" cy="33242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236000" y="272268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7236000" y="4465800"/>
            <a:ext cx="934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4276" descr=""/>
          <p:cNvPicPr/>
          <p:nvPr/>
        </p:nvPicPr>
        <p:blipFill>
          <a:blip r:embed="rId1"/>
          <a:stretch/>
        </p:blipFill>
        <p:spPr>
          <a:xfrm>
            <a:off x="281160" y="933480"/>
            <a:ext cx="8581680" cy="4991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4573440" y="2836800"/>
            <a:ext cx="64620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4572000" y="3645000"/>
            <a:ext cx="64620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4284720" y="4581360"/>
            <a:ext cx="64620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4284720" y="5373720"/>
            <a:ext cx="6462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2231" descr=""/>
          <p:cNvPicPr/>
          <p:nvPr/>
        </p:nvPicPr>
        <p:blipFill>
          <a:blip r:embed="rId1"/>
          <a:stretch/>
        </p:blipFill>
        <p:spPr>
          <a:xfrm>
            <a:off x="552600" y="2671920"/>
            <a:ext cx="8038800" cy="15141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4788000" y="2708280"/>
            <a:ext cx="64908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4788000" y="3573360"/>
            <a:ext cx="64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38:2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